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E3E-BD44-4BA5-822D-D13A2C7D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B5C-38EA-450A-9BA1-BCB650F6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E90-2518-4047-A6B0-0C953CAD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571-55B3-4B3B-BBA2-ED6E96D9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F93-5383-4F03-ABCA-45C87650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379-9730-404A-8E82-0011A500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4B6-4517-4FE2-9076-03B51AF8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CAD-8211-4E47-9CC6-B83B01AF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BAC-7FA7-4A7C-B3A6-A4B241D2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49E-DD62-4103-9EF9-6426F0F0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972-E99F-45D9-A181-ABCC65A6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3BC-0542-425D-9ACC-E8F0BEB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A631-6783-4CE7-8331-21C880A1E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aamat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600200"/>
            <a:ext cx="7086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Estimating Sums and Differenc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of Decim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95280"/>
            <a:ext cx="914400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use estimation for getting an approximate value for multiplying, dividing, adding, and subtracting. Another kind of estimation is front-end estimation. How to front end estimation is on the next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533520"/>
            <a:ext cx="719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y Do You Use Estimation?</a:t>
            </a:r>
            <a:endParaRPr b="0" lang="en-US" sz="1800" spc="1" strike="noStrike">
              <a:ln w="0">
                <a:noFill/>
              </a:ln>
              <a:solidFill>
                <a:srgbClr val="33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457200"/>
            <a:ext cx="793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to do Front End Estim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53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d or subtract the first two dig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d or subtract the next two digits in the next place valu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 not do anything with the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38280" y="3657600"/>
            <a:ext cx="304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8120" y="3657600"/>
            <a:ext cx="30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657600" y="3657600"/>
            <a:ext cx="457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181480"/>
            <a:ext cx="3048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5120" y="4495680"/>
            <a:ext cx="380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9920" y="3657600"/>
            <a:ext cx="304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629400" y="3657600"/>
            <a:ext cx="304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8880" y="3657600"/>
            <a:ext cx="457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5181480"/>
            <a:ext cx="3048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486400" y="4495680"/>
            <a:ext cx="380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38280" y="52578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705720" y="52578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5880" y="52578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n you have an approximate value of what you would have gotten with the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8600" y="1676520"/>
            <a:ext cx="7632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8098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57640" y="2133720"/>
            <a:ext cx="114300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590920"/>
            <a:ext cx="6781680" cy="990360"/>
          </a:xfrm>
          <a:prstGeom prst="line">
            <a:avLst/>
          </a:prstGeom>
          <a:ln w="7632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3505320"/>
            <a:ext cx="685800" cy="152388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21472200">
            <a:off x="1066680" y="380880"/>
            <a:ext cx="67057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ope This Hel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809880"/>
            <a:ext cx="8077320" cy="916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is isn’t enough this website might give you a little bit more. Just click on this link right her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aaamath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 There are lots of math topics if you just don’t want front end estim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3:56:19Z</dcterms:created>
  <dc:creator>Kids</dc:creator>
  <dc:description/>
  <dc:language>en-US</dc:language>
  <cp:lastModifiedBy>Kids</cp:lastModifiedBy>
  <dcterms:modified xsi:type="dcterms:W3CDTF">2008-10-17T01:07:23Z</dcterms:modified>
  <cp:revision>3</cp:revision>
  <dc:subject/>
  <dc:title>Slide 1</dc:title>
</cp:coreProperties>
</file>